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210-D11C-49B9-AD67-FF404266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CFD-8016-4109-8014-B675D11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C02-D2A8-43D0-B6E2-03ABFE0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CD6-A62B-4FC9-B9AC-65A5A9CF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916-9BC0-42EB-B400-D2B42D8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D37-8676-4BA7-B83D-4E033F6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91B-0C42-4E0B-B2FF-448A180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7F9-8BF5-42F0-BFF1-A0F55277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119-EF8E-4FA2-A46D-B3D47F9A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0F9-9E98-4CE0-ACD5-B7AC46C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D2A-9515-41AD-B33D-845A444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B00-BB61-4E89-9D2B-07F230F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22A3-7125-4CC8-8C3D-915898CC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62" t="22917" r="312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3127" t="26042" r="3127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6042" r="783" b="72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127" t="14584" r="3127" b="17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2:06:08Z</dcterms:created>
  <dc:creator>Patrick J. Mooney</dc:creator>
  <dc:description/>
  <dc:language>en-US</dc:language>
  <cp:lastModifiedBy>Patrick J. Mooney</cp:lastModifiedBy>
  <dcterms:modified xsi:type="dcterms:W3CDTF">2010-03-03T22:44:01Z</dcterms:modified>
  <cp:revision>4</cp:revision>
  <dc:subject/>
  <dc:title>Slide 1</dc:title>
</cp:coreProperties>
</file>